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C60-FB4F-4AEC-8BE3-520839CE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BE5-D2D9-4E7D-87E3-C594B10A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504-4D2A-4A27-A7C9-889AF1D7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F3A-76C5-487C-AF5D-C80EAB78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1A3-01FA-4D2C-AE07-003A07F9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840-B523-4BB2-B016-F733CC9A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847-13E8-426D-8465-C5AFC441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488-A619-4FF2-A721-FF84A18E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573-0EA5-4F26-9AC2-A3A7D01F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8DC-E8E8-40F2-96D4-2BD9430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992-D7AE-4255-8D2A-D339BB72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DEE-09D0-4027-9B23-24577788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ED92-EFED-4E25-A1DD-939F2DE9BE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523404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2205000"/>
            <a:ext cx="604836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宋体"/>
              </a:rPr>
              <a:t>1.1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正数和负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50920" y="163440"/>
            <a:ext cx="2017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合作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2781360"/>
            <a:ext cx="759636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可以有怎样的实际意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3209760" cy="2619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181400" cy="4286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79280" y="4005360"/>
            <a:ext cx="4314960" cy="1895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867280" y="4437000"/>
            <a:ext cx="2664000" cy="1776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50920" y="163440"/>
            <a:ext cx="2017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情境再现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0920" y="163440"/>
            <a:ext cx="2017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合作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1125360"/>
            <a:ext cx="194472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205000"/>
            <a:ext cx="7632720" cy="382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正负数的产生是实际的需要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正负数的表示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0</a:t>
            </a: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的特殊性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正负数的实际应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35080" y="1074600"/>
            <a:ext cx="66088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由于我国农业的发展，每年我国从国外进口的粮食正逐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降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进口粮食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增加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， 增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什么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64040" y="2668320"/>
            <a:ext cx="614412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由于我国经济的发展，每年我国从国外进口的石油正逐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升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进口石油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减少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43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， 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,43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是什么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10840" y="796680"/>
            <a:ext cx="60418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一种零件的内径尺寸在图纸上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±0.05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位：毫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示这种零件的标准尺寸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毫米，加工要求最大不超过标准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毫米，最小不低于标准尺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毫米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2381400"/>
            <a:ext cx="607500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味精袋上标有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±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克”字样中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8680" y="3931920"/>
            <a:ext cx="554652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张大妈在超市买了一袋洗衣粉，发现包装袋上标有这样一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字条：净重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00±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张大妈怎么也看不明白是什么意思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能给她解释清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67280" y="3086280"/>
            <a:ext cx="2880000" cy="198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女力士唐功红在女子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+75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公斤级举重比赛中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不负众望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以抓举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22.5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公斤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挺举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82.5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公斤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总成绩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305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公斤夺得第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8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枚金牌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与获银牌的韩国选手相比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她的抓举重量－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7.5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公斤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挺举重量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+10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公斤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3068640"/>
            <a:ext cx="1944720" cy="208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在女子柔道－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52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公斤级的冠军争夺战中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中国选手冼东妹仅用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.1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分钟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就为中国柔道队夺得首枚金牌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560" y="3083040"/>
            <a:ext cx="2233800" cy="2150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在男子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10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米栏决赛中，中国选手刘翔以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2.91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秒的成绩夺得金牌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这个成绩打破了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2.96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的奥运会纪录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平了世界纪录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实现了中国男子田径金牌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0</a:t>
            </a: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的突破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4240" y="3141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60280" y="3825720"/>
            <a:ext cx="7704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2.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6800" y="4518000"/>
            <a:ext cx="7704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2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24680" y="5554800"/>
            <a:ext cx="3117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0360" y="765000"/>
            <a:ext cx="2662200" cy="200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8360" y="765000"/>
            <a:ext cx="2160720" cy="1940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203640" y="765000"/>
            <a:ext cx="2160360" cy="1982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3" name=""/>
          <p:cNvSpPr/>
          <p:nvPr/>
        </p:nvSpPr>
        <p:spPr>
          <a:xfrm>
            <a:off x="3350520" y="3581280"/>
            <a:ext cx="634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－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9520" y="4776840"/>
            <a:ext cx="5083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46400" y="3436920"/>
            <a:ext cx="5738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+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62720" y="3754440"/>
            <a:ext cx="7704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2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3040" y="4071960"/>
            <a:ext cx="7704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8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51480" y="4070520"/>
            <a:ext cx="5738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3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02000" y="4384800"/>
            <a:ext cx="4428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22000" y="5018040"/>
            <a:ext cx="7002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黑体"/>
                <a:ea typeface="黑体"/>
              </a:rPr>
              <a:t>－</a:t>
            </a: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7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8640" y="5334120"/>
            <a:ext cx="5738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黑体"/>
                <a:ea typeface="黑体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38040" y="0"/>
            <a:ext cx="7476480" cy="581400"/>
            <a:chOff x="338040" y="0"/>
            <a:chExt cx="7476480" cy="581400"/>
          </a:xfrm>
        </p:grpSpPr>
        <p:sp>
          <p:nvSpPr>
            <p:cNvPr id="63" name=""/>
            <p:cNvSpPr txBox="1"/>
            <p:nvPr/>
          </p:nvSpPr>
          <p:spPr>
            <a:xfrm>
              <a:off x="338040" y="163440"/>
              <a:ext cx="1727280" cy="35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ff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隶书"/>
                </a:rPr>
                <a:t>情境引入</a:t>
              </a:r>
              <a:endPara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  <a:ea typeface="华文隶书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34040" y="0"/>
              <a:ext cx="43804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2004</a:t>
              </a:r>
              <a:r>
                <a:rPr b="0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年雅典奥运会中国队战绩辉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78880" y="33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120" y="3911760"/>
            <a:ext cx="7506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12.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4520" y="4443480"/>
            <a:ext cx="7506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12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63840" y="526428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7600" y="3622680"/>
            <a:ext cx="625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－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92600" y="4437000"/>
            <a:ext cx="5616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1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65960" y="3630600"/>
            <a:ext cx="5677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+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54080" y="4170240"/>
            <a:ext cx="7506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12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93640" y="4437000"/>
            <a:ext cx="7506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18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93640" y="4724280"/>
            <a:ext cx="5601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3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0400" y="4718160"/>
            <a:ext cx="4338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88440" y="5229360"/>
            <a:ext cx="6897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－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7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97800" y="5495760"/>
            <a:ext cx="5677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2520" y="33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.9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31240" y="12351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2.5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2520" y="333360"/>
            <a:ext cx="6242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37440" y="333360"/>
            <a:ext cx="814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.9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33360"/>
            <a:ext cx="5616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48880" y="347760"/>
            <a:ext cx="625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10160" y="347760"/>
            <a:ext cx="3711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6160" y="1268280"/>
            <a:ext cx="6897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21440" y="1225440"/>
            <a:ext cx="814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2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97920" y="1268280"/>
            <a:ext cx="6897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1600" y="1268280"/>
            <a:ext cx="7534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10520" y="1268280"/>
            <a:ext cx="4978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2880" y="1268280"/>
            <a:ext cx="6242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8040" y="163440"/>
            <a:ext cx="172728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活动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1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78035E-007 C 0.06632 -0.03075 0.13264 -0.0615 0.16024 -0.12254 C 0.18785 -0.18358 0.16423 -0.32462 0.1651 -0.36578 E">
                                      <p:cBhvr>
                                        <p:cTn id="9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1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98844E-006 C 0.09878 -0.03006 0.19774 -0.06012 0.24757 -0.13411 C 0.29739 -0.20787 0.29097 -0.39168 0.29878 -0.44417 E">
                                      <p:cBhvr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1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2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65896E-006 C 0.12813 -0.07584 0.2566 -0.15121 0.31615 -0.23861 C 0.37604 -0.32532 0.36632 -0.42358 0.35695 -0.52162 E">
                                      <p:cBhvr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2.31214E-007 C 0.16007 -0.09318 0.32326 -0.18613 0.39896 -0.29318 C 0.47483 -0.4 0.46267 -0.52092 0.45087 -0.64116 E">
                                      <p:cBhvr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87283E-006 C 0.1151 -0.05757 0.23038 -0.11398 0.2842 -0.17919 C 0.33854 -0.24462 0.32934 -0.31838 0.321 -0.39121 E">
                                      <p:cBhvr>
                                        <p:cTn id="12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23 C 0.13871 -0.07445 0.27882 -0.14821 0.3434 -0.23353 C 0.40885 -0.31838 0.39774 -0.41457 0.38819 -0.51006 E">
                                      <p:cBhvr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0023 C -0.10052 -0.04069 -0.20087 -0.08115 -0.24757 -0.12717 C -0.29323 -0.17318 -0.28629 -0.22566 -0.27934 -0.27722 E">
                                      <p:cBhvr>
                                        <p:cTn id="12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87283E-006 C -0.18664 -0.05063 -0.37309 -0.10057 -0.46007 -0.15815 C -0.54601 -0.21572 -0.53247 -0.28092 -0.5191 -0.34543 E">
                                      <p:cBhvr>
                                        <p:cTn id="13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19653E-006 C -0.13212 -0.05619 -0.26372 -0.11191 -0.32483 -0.17596 C -0.38542 -0.23977 -0.37587 -0.3126 -0.36649 -0.38428 E">
                                      <p:cBhvr>
                                        <p:cTn id="13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48555E-006 C -0.05625 -0.06243 -0.10903 -0.12416 -0.1335 -0.19515 C -0.15451 -0.26636 -0.15104 -0.34659 -0.14757 -0.42613 E">
                                      <p:cBhvr>
                                        <p:cTn id="1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evt="end">
                                        <p:tn val="135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5896E-006 C -0.07066 -0.06358 -0.14062 -0.1267 -0.17326 -0.1993 C -0.20434 -0.27214 -0.2 -0.35399 -0.19514 -0.4356 E">
                                      <p:cBhvr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evt="end">
                                        <p:tn val="138"/>
                                      </p:cond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31214E-007 C -0.0059 -0.08116 -0.01163 -0.16139 -0.01441 -0.25387 C -0.01702 -0.34659 -0.01667 -0.4511 -0.01615 -0.55514 E">
                                      <p:cBhvr>
                                        <p:cTn id="14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41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39306E-006 C 0.03403 -0.08694 0.06841 -0.17341 0.0842 -0.27237 C 0.10035 -0.37203 0.09757 -0.48394 0.09514 -0.59538 E">
                                      <p:cBhvr>
                                        <p:cTn id="14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evt="end">
                                        <p:tn val="144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3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02520" y="33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.9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8000" y="12351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2.5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2520" y="333360"/>
            <a:ext cx="6242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7440" y="333360"/>
            <a:ext cx="814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.9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7440" y="333360"/>
            <a:ext cx="5616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880" y="347760"/>
            <a:ext cx="625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10160" y="347760"/>
            <a:ext cx="3711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6160" y="1268280"/>
            <a:ext cx="6897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21440" y="1225440"/>
            <a:ext cx="814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2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97920" y="1268280"/>
            <a:ext cx="6897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1600" y="1268280"/>
            <a:ext cx="7534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10520" y="1268280"/>
            <a:ext cx="4978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2880" y="1268280"/>
            <a:ext cx="6242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62080" y="2133720"/>
            <a:ext cx="4892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在以上各数中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哪些是在小学里学过的数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?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它们分别叫什么数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16800" y="3068640"/>
            <a:ext cx="5148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在小学里学过的数中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有没有哪类数在上面没有出现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?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请举例说明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765000"/>
            <a:ext cx="1368360" cy="93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38160">
            <a:solidFill>
              <a:srgbClr val="eaeaea"/>
            </a:solidFill>
            <a:miter/>
          </a:ln>
          <a:effectLst>
            <a:outerShdw dist="153753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93720"/>
            <a:ext cx="1363680" cy="55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同组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8040" y="163440"/>
            <a:ext cx="172728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活动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1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4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920" y="163440"/>
            <a:ext cx="2017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自主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2" name=""/>
          <p:cNvSpPr/>
          <p:nvPr/>
        </p:nvSpPr>
        <p:spPr>
          <a:xfrm>
            <a:off x="1704240" y="981000"/>
            <a:ext cx="1929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问题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: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什么数叫做正数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04240" y="1630440"/>
            <a:ext cx="1929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问题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: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什么数叫做负数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7600" y="2276640"/>
            <a:ext cx="2234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问题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: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正负数分别怎样表示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hockwaveFlash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6481800" cy="3095640"/>
          </a:xfrm>
          <a:prstGeom prst="rect">
            <a:avLst/>
          </a:prstGeom>
          <a:ln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38040" y="163440"/>
            <a:ext cx="172728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情境引入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3672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月有阴晴圆缺，人有悲欢离合。”，这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词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写下的被人们广为传诵的佳句，其中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都是自然世界、人类生活中截然相反的意义的真实描绘，这些矛盾的东西融为一体，营造出了和谐而真实的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在数学世界里，一对对具有相反意义的量也是这个大家庭的成员，它们彼此矛盾而又各平相处，为数学世界增添了无穷的魅力。请再举出一些具有相反意义的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1405080"/>
            <a:ext cx="637920" cy="550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Arial"/>
                <a:ea typeface="宋体"/>
              </a:rPr>
              <a:t>宋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77920" y="1389240"/>
            <a:ext cx="866520" cy="550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Arial"/>
                <a:ea typeface="宋体"/>
              </a:rPr>
              <a:t>苏东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66040" y="1916280"/>
            <a:ext cx="4310640" cy="550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Arial"/>
                <a:ea typeface="宋体"/>
              </a:rPr>
              <a:t>阴与晴    圆与缺     悲与欢     离与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0920" y="163440"/>
            <a:ext cx="2017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自主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2" name=""/>
          <p:cNvSpPr/>
          <p:nvPr/>
        </p:nvSpPr>
        <p:spPr>
          <a:xfrm>
            <a:off x="1468800" y="836640"/>
            <a:ext cx="3423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问题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: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正负数与相反意义的量之间是什么关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55880" y="1413000"/>
            <a:ext cx="2204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问题</a:t>
            </a: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: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这种关系说明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1916280"/>
            <a:ext cx="627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、正负数可以用现实生活中具有相反意义的量来解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660033"/>
                </a:solidFill>
                <a:latin typeface="黑体"/>
                <a:ea typeface="黑体"/>
              </a:rPr>
              <a:t>、现实生活中的相反意义的量可以用正负数来表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hockwaveFlash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6481800" cy="3095640"/>
          </a:xfrm>
          <a:prstGeom prst="rect">
            <a:avLst/>
          </a:prstGeom>
          <a:ln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378320" y="2708280"/>
            <a:ext cx="476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2708280"/>
            <a:ext cx="414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163440"/>
            <a:ext cx="2017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练习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1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"/>
          <p:cNvSpPr/>
          <p:nvPr/>
        </p:nvSpPr>
        <p:spPr>
          <a:xfrm>
            <a:off x="5567760" y="163440"/>
            <a:ext cx="62280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、正负数可以用现实生活中具有相反意义的量来解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3600" y="836640"/>
            <a:ext cx="90504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如果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计为收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表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_______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高出海平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计为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，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7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表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______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计为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，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表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______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公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记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20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，那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表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90720" y="2960640"/>
            <a:ext cx="62280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、现实生活中的相反意义的量可以用正负数来表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2280" y="3482640"/>
            <a:ext cx="7207200" cy="268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零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表示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__ ℃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比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温度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__ ℃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表示向西，则负表示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粮食产量增产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，记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，则减产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应记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某天中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时的温度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早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时气温比中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时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早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时温度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___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若早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时气温比中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时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3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早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时温度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_____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836640"/>
            <a:ext cx="129672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支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1268280"/>
            <a:ext cx="259236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低于海平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789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1700280"/>
            <a:ext cx="259236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增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千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1640" y="2103480"/>
            <a:ext cx="259236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公元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3573360"/>
            <a:ext cx="79200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6000" y="3535200"/>
            <a:ext cx="79200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53040" y="3976560"/>
            <a:ext cx="79200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65960" y="4408560"/>
            <a:ext cx="102240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5300640"/>
            <a:ext cx="79200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5734080"/>
            <a:ext cx="79200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2520" y="2349360"/>
            <a:ext cx="82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若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则可以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为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试猜想若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计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052640"/>
            <a:ext cx="85690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如果全班某次数学测试的平均成绩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某同学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记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应记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记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63440"/>
            <a:ext cx="2017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练习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2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499200"/>
            <a:ext cx="8640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如果向东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记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，则向西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记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99880" y="4219920"/>
            <a:ext cx="66618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如果向东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记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，则向西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记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35520" y="4867920"/>
            <a:ext cx="68950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如果向东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记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，则向西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记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1398600"/>
            <a:ext cx="115236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+7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1773360"/>
            <a:ext cx="115272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2814480"/>
            <a:ext cx="115272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7280" y="3506760"/>
            <a:ext cx="115236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51640" y="4221000"/>
            <a:ext cx="115272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+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2:03:57Z</dcterms:created>
  <dc:creator>为您服务教育网http://www.wsbedu.com/</dc:creator>
  <dc:description/>
  <cp:keywords/>
  <dc:language>en-US</dc:language>
  <cp:lastModifiedBy>微软用户</cp:lastModifiedBy>
  <dcterms:modified xsi:type="dcterms:W3CDTF">2014-06-30T00:51:08Z</dcterms:modified>
  <cp:revision>144</cp:revision>
  <dc:subject/>
  <dc:title>全国数学青年教师优秀课比赛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